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810970"/>
        <c:axId val="22255555"/>
      </c:barChart>
      <c:catAx>
        <c:axId val="868109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255555"/>
        <c:crosses val="autoZero"/>
        <c:auto val="1"/>
        <c:lblAlgn val="ctr"/>
        <c:lblOffset val="100"/>
        <c:noMultiLvlLbl val="0"/>
      </c:catAx>
      <c:valAx>
        <c:axId val="222555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8109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78F4-4282-4639-82EC-CE7FAF848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BFFAD-6EBF-4DFA-A3E6-F696FEC09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7016-5471-4776-85C0-2BAA30A0B8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1AC5F-9DF8-4023-A1C4-C927330F41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3955-346F-4782-BB7B-843049D30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906CF-80BE-42C1-A959-BAD1810BE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3F1B-228D-4BC2-9229-6D631FFFC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7498-238D-4195-963D-31FFD3424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4A38-20D5-40AE-8F7D-CB806EB75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302E6-20C0-44AD-BEEA-D84CDB1EC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07F5F-35B0-40BD-900F-57FD8A2D0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0C622-A97C-4D25-82AC-87DEFCC16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2F4FB0-8EF4-47F3-A46F-0C2BF9AD6D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