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26140"/>
        <c:axId val="59883587"/>
      </c:barChart>
      <c:catAx>
        <c:axId val="65426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83587"/>
        <c:crosses val="autoZero"/>
        <c:auto val="1"/>
        <c:lblAlgn val="ctr"/>
        <c:lblOffset val="100"/>
        <c:noMultiLvlLbl val="0"/>
      </c:catAx>
      <c:valAx>
        <c:axId val="59883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26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751-F60C-445F-9E9E-9E9AC067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21B-1028-4379-BC09-9F3D4CE5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EBB-93D2-4807-9D69-835FD5B0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99A-C68E-4FCF-9555-F94A9636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8C1-2BF1-41E8-ACEC-026C4085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9DA-ECD5-4C05-955F-83CC9BAC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120-A8DB-467C-84B0-1FB1F78E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75A-37CA-4671-B911-B1DA3FE0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611-5C8A-42C1-A0A1-A183407F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B6B-3F9A-44AC-B37D-C13E171E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208-6AD0-4CD8-A192-7E461481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DF5-A036-42E1-A69E-6FA81EBB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0D03F-FFEA-48F0-8D90-158E70CC8E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