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85797"/>
        <c:axId val="90281279"/>
      </c:barChart>
      <c:catAx>
        <c:axId val="55685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81279"/>
        <c:crosses val="autoZero"/>
        <c:auto val="1"/>
        <c:lblAlgn val="ctr"/>
        <c:lblOffset val="100"/>
        <c:noMultiLvlLbl val="0"/>
      </c:catAx>
      <c:valAx>
        <c:axId val="90281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85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ED4-2DDB-4205-8110-70A9743D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8B3-80F1-48FD-B91C-85CC2E2F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2AA-6A56-4905-8349-363D93BC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33D-73CA-4A1D-9EFC-3D884955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420-7DE6-4F98-B569-A0952CDD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321-7101-41DF-B48A-2DF156F9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8B9A-CD0D-4ACF-99ED-3AC04AE8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AE1-283F-4BA0-9854-0309944B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A26-EDA6-436C-B34D-6AC363EE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961-F8FC-4EC2-9D61-E4882BCB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0AB-CDE0-4CDC-9B75-881D3838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C6E-D8F9-4DD5-A486-C0ED95F8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5E5BE-7985-4518-8E0A-C1CC1B31B6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