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4915"/>
        <c:axId val="69356102"/>
      </c:barChart>
      <c:catAx>
        <c:axId val="4114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6102"/>
        <c:crosses val="autoZero"/>
        <c:auto val="1"/>
        <c:lblAlgn val="ctr"/>
        <c:lblOffset val="100"/>
        <c:noMultiLvlLbl val="0"/>
      </c:catAx>
      <c:valAx>
        <c:axId val="69356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4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855-593B-44EC-9AF5-38A2E9B2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1F4-D12B-454B-9058-78579C4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40E-0D9F-48EC-AB15-F49F866C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C52-4689-4CCE-8675-65378A39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40C-E903-4AB8-ACD5-B491FD7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6DE-743C-4170-A861-0F681D7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2DC-52CC-4D00-BD18-636FE17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04E-822B-4534-BAB8-5AA1423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C4A-3AD1-4577-BD85-4478C526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C72-59B8-4829-92D1-32C7864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2EB-4F26-457A-8F58-BAEF93A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3FA-84A0-46C5-8EE7-55D196F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3659F-D38B-44C4-AA28-54A95A975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