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24144"/>
        <c:axId val="79678553"/>
      </c:barChart>
      <c:catAx>
        <c:axId val="66224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78553"/>
        <c:crosses val="autoZero"/>
        <c:auto val="1"/>
        <c:lblAlgn val="ctr"/>
        <c:lblOffset val="100"/>
        <c:noMultiLvlLbl val="0"/>
      </c:catAx>
      <c:valAx>
        <c:axId val="79678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24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A2F-0E43-498E-89C5-7C7DC7E2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3E5-0BBB-4847-940D-1CE45EE6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B2C-CA19-49F5-A5B2-24ACD350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70A-1A94-468C-8899-B314E678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FAB-A8D4-46F5-88A0-F7919EC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82D-E8F7-43C9-9AC2-BC6A5674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833-F772-429A-8380-B025255C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00C-15C1-4165-A0CC-15B0BAF7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835-8F3F-44B4-A607-76F24294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0DD-BEB0-4236-A7B9-1ECC5E73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ED6-256C-49F6-8700-1A9253BD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6AC-511B-4219-A008-F3151088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D5287-7E5F-4C88-830D-C36D786A30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