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64386"/>
        <c:axId val="58854200"/>
      </c:barChart>
      <c:catAx>
        <c:axId val="24264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54200"/>
        <c:crosses val="autoZero"/>
        <c:auto val="1"/>
        <c:lblAlgn val="ctr"/>
        <c:lblOffset val="100"/>
        <c:noMultiLvlLbl val="0"/>
      </c:catAx>
      <c:valAx>
        <c:axId val="58854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64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44CB-0DB5-4598-ACAD-C84D78B8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610D-F9DB-48CD-A429-6CE07A0B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287C-341B-4C3F-BD57-0EA76534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CB43-C8BF-41B8-B7BD-DE3882EF2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6319-4D08-44CC-9693-D3498EDA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142D-22F9-4534-8F7A-C62311C8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865-0C6C-4062-A513-EE763EDA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04EB-4399-48E5-A7A0-0E0E6461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0F6F-FE17-45CA-A6EE-BEE0F900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F0E-E527-45E5-A918-C7BF37CD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617-C309-4188-B060-954076FD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0CC-270B-4141-84C5-657B0939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356A8C-9052-40EF-A6BE-7EE76E67A7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