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996715"/>
        <c:axId val="78716919"/>
      </c:barChart>
      <c:catAx>
        <c:axId val="46996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716919"/>
        <c:crosses val="autoZero"/>
        <c:auto val="1"/>
        <c:lblAlgn val="ctr"/>
        <c:lblOffset val="100"/>
        <c:noMultiLvlLbl val="0"/>
      </c:catAx>
      <c:valAx>
        <c:axId val="78716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996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E8D2-EBDD-4C77-8A42-63E6C656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829-7536-4737-8598-8DAEC9B0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081-4DDD-4751-AAEA-0BE4488A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FCF-7781-4897-A386-207DEBEF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660A-D697-4311-9AF3-F19FFDD6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347-56E4-4276-A5F5-85DF474B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13F-84F9-452A-A7D0-A1043A1C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48A-CDBD-43B6-95B4-FB2BB27B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84B-900A-42D1-B136-BFD27EFDB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9EF-5AA2-4E51-918C-03D2AD3F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2B2A-E0A8-485F-A838-84E9D964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340-783B-41AC-A726-081B79B4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2F612-B9AB-4108-9A26-33B8D4D347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