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44779"/>
        <c:axId val="35089185"/>
      </c:barChart>
      <c:catAx>
        <c:axId val="71444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89185"/>
        <c:crosses val="autoZero"/>
        <c:auto val="1"/>
        <c:lblAlgn val="ctr"/>
        <c:lblOffset val="100"/>
        <c:noMultiLvlLbl val="0"/>
      </c:catAx>
      <c:valAx>
        <c:axId val="35089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4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EE6-C4F8-4D2E-9619-828DB2FD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697-2B78-48C8-BF9E-B3C6890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5CB-9D3A-430B-A9D7-AE65A435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996-1E33-4143-A533-8FFCA513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622-67F7-4275-BC05-05281DA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7B7-5D20-4460-8C69-4E59F0D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AF2-8DFA-4C31-80D2-E3FD25D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265-D965-48CF-9911-E36AAC05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302-8F58-484B-A68B-FDA6C6D9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33F-89DE-416F-B54A-1DA2F19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BEC-9869-4A18-8C59-CBEC091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612-BC56-41BA-A03B-6DB4FA2A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2493-3260-453C-96E1-CD65F1F659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