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7666"/>
        <c:axId val="3934280"/>
      </c:barChart>
      <c:catAx>
        <c:axId val="7677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4280"/>
        <c:crosses val="autoZero"/>
        <c:auto val="1"/>
        <c:lblAlgn val="ctr"/>
        <c:lblOffset val="100"/>
        <c:noMultiLvlLbl val="0"/>
      </c:catAx>
      <c:valAx>
        <c:axId val="3934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7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41B-FCA2-4F26-AEC5-5EBF74DC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792-DF06-4C83-8EAE-64633B11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9A0-3A3A-4A70-B763-7118390D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4DA-1CC8-4ADE-A7AB-12B4631E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2BE-D45E-46F1-B464-49D9D266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98A-2964-434B-9947-60FD088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905-39D9-4617-87C0-9C3312CF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7BB-544B-4A3E-86FE-4D5B5506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521-A529-4F5D-8DAC-363CE06A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60A-213B-4A8C-9311-BAC4EE31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0FF-E4D7-489C-B7DD-D3C4ED73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C4C-D28B-4BBC-A7F9-FAF9D3BF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5F3E2-8C8D-4569-A68B-31B371EEA7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