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9162499"/>
        <c:axId val="85808055"/>
      </c:barChart>
      <c:catAx>
        <c:axId val="3916249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808055"/>
        <c:crosses val="autoZero"/>
        <c:auto val="1"/>
        <c:lblAlgn val="ctr"/>
        <c:lblOffset val="100"/>
        <c:noMultiLvlLbl val="0"/>
      </c:catAx>
      <c:valAx>
        <c:axId val="8580805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16249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F2390-B5B8-4DE1-ABB9-7E07C5AF0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B4D28-CD5C-48C7-B24E-36CD2A329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4BDE7-9059-4D39-9F0C-902B90DFA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1946D-D363-45FD-847A-3E3F9C368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550A6-5C43-4AFB-9790-63DEA5AC8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FB852-3487-44AA-8455-D1F24BA24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B713C-7836-4C5C-98D6-8C5020CE5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91CC0-7800-406C-B3EF-C97CCF380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4C793-3237-4039-AC02-15D3E9FEB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E66E2-2FF2-4360-8673-34BB4A864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E19FE-7324-4FF6-91F7-9365F68B1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28760-5237-4834-9C74-A9BC9E243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509DEE-32B4-4802-B650-9FF07E409D7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