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6725"/>
        <c:axId val="39260555"/>
      </c:barChart>
      <c:catAx>
        <c:axId val="8876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60555"/>
        <c:crosses val="autoZero"/>
        <c:auto val="1"/>
        <c:lblAlgn val="ctr"/>
        <c:lblOffset val="100"/>
        <c:noMultiLvlLbl val="0"/>
      </c:catAx>
      <c:valAx>
        <c:axId val="39260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6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5DD-C3C0-45C1-99A2-ABFB2B2E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435-38A5-4FD1-B9B5-B6908632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248-7417-43E4-BDAC-1C4CF604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BA1-C83A-4D45-B32C-6D192FEF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6D0-65DF-4991-8D09-1C0AD47A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B66-21B9-4C92-AF33-5F614E6A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984-8F03-4D20-997E-00650399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CFB-B21E-4C43-8B7D-09E72EA8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1F8-891D-4923-9735-693C45D7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1C4-C647-421D-8F7A-EB16D6BB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17F-2978-4739-A163-76528949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851-3976-411A-AD16-0557935C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75D6F-8AEC-46AC-AA1D-542AF7F667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