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2963"/>
        <c:axId val="66125968"/>
      </c:barChart>
      <c:catAx>
        <c:axId val="84029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25968"/>
        <c:crosses val="autoZero"/>
        <c:auto val="1"/>
        <c:lblAlgn val="ctr"/>
        <c:lblOffset val="100"/>
        <c:noMultiLvlLbl val="0"/>
      </c:catAx>
      <c:valAx>
        <c:axId val="661259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29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8995-BA5D-43EC-B42C-AAE65059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943F-8809-4C71-AECB-B090F6F3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211F-7A92-4CC2-9DBC-72BCC60B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D176-405D-41CF-80D8-C792DE7F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CB31-B939-46C9-BD86-1339E0CF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F7C7-12C9-44F6-AD19-16D29C3F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81F4-AFDB-4DFA-9B21-7DE14F88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A49-FDD1-4D2F-B14D-21CA4116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2B3A-0406-499C-88DD-3CA96A2E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F862-F082-4BAF-8771-D6525E89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8173-734A-49C1-81D1-3DA0D63F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DECB-1D57-49F1-AD7D-CA3B9A49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62F3C-E679-4A4D-B3B1-860DABE979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