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03657"/>
        <c:axId val="23116406"/>
      </c:barChart>
      <c:catAx>
        <c:axId val="70203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16406"/>
        <c:crosses val="autoZero"/>
        <c:auto val="1"/>
        <c:lblAlgn val="ctr"/>
        <c:lblOffset val="100"/>
        <c:noMultiLvlLbl val="0"/>
      </c:catAx>
      <c:valAx>
        <c:axId val="23116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03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558-740B-4766-9D0D-656BD341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67E-E3BB-4E7E-9669-288E0F4D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552-4BB5-4927-8C2C-EACFB718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3A3-3B31-4696-AFB8-A40AC517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E1E-B343-4E87-9B2E-D8350CD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6BB-F4E0-4966-A118-1F34798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E6F-946A-44A2-AFEF-37AF3CB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1C8-877B-4BCF-B6C7-EA6CDB4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B0F-F292-4E2A-85DC-0A091CAE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FCD-5260-463E-B903-A4395F0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6EB-A8A2-4A7F-AC4E-5C1AA1C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5CB-2967-49ED-B86F-43E0DACA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D11E6-2E96-481B-A46F-D5F5D41D7B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