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20948"/>
        <c:axId val="50989550"/>
      </c:barChart>
      <c:catAx>
        <c:axId val="81520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89550"/>
        <c:crosses val="autoZero"/>
        <c:auto val="1"/>
        <c:lblAlgn val="ctr"/>
        <c:lblOffset val="100"/>
        <c:noMultiLvlLbl val="0"/>
      </c:catAx>
      <c:valAx>
        <c:axId val="509895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20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848-50C3-44DE-914A-C2CA7549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221-5B37-4243-B13A-FE615EEF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12BC-39C7-4A90-8346-FF99E225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AAB-BA28-4D58-8EC7-2DC249C1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187-EC3B-4666-92B9-7670781E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BC1-4BD5-468A-B408-EBEEC426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601-0CC7-4322-A76E-B5C1F4BD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50C-170E-4EFC-BF01-A1636430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78F-131F-4E78-BED5-E3AE72AB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C77-7637-4AA1-9BA2-84F2AAE2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D67-FBFB-47A0-9967-F9878A27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48E-6DA6-4A13-B34A-69870E8D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E4CD1-76B6-4D2D-8EA7-7255625ECC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