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09822"/>
        <c:axId val="83574398"/>
      </c:barChart>
      <c:catAx>
        <c:axId val="17809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74398"/>
        <c:crosses val="autoZero"/>
        <c:auto val="1"/>
        <c:lblAlgn val="ctr"/>
        <c:lblOffset val="100"/>
        <c:noMultiLvlLbl val="0"/>
      </c:catAx>
      <c:valAx>
        <c:axId val="83574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09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2CD-0564-4002-810F-292719A1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6F0-439E-47FD-A24C-222A9D60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C9B-DA36-4A21-B95F-ECA26FFD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FEF-7E19-44E4-9F3A-FA1050BC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8F5D-4F9E-4FF7-BECF-2159E6F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1B7-BF57-4DA8-AF21-9B604FF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828-C593-4919-BD8F-1344C8D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9AE-89DD-42F4-8E37-04388C3D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6C9-ACD1-4407-91F5-1BE790D5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BAB-85B0-403F-A888-B48C301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F20D-3894-451C-BB5A-29925F62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7AF-D973-4A8A-9AD4-2DA805E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58D81-2F2B-4D73-9D13-DAB48ECC5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