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48833"/>
        <c:axId val="79157276"/>
      </c:barChart>
      <c:catAx>
        <c:axId val="15848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57276"/>
        <c:crosses val="autoZero"/>
        <c:auto val="1"/>
        <c:lblAlgn val="ctr"/>
        <c:lblOffset val="100"/>
        <c:noMultiLvlLbl val="0"/>
      </c:catAx>
      <c:valAx>
        <c:axId val="79157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48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702-C53E-4425-B834-459B3BEF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204-B1FD-4F92-8407-0CCEAB6B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07A-3B58-4612-92EC-B3F9F27F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5E8-B294-4962-A41C-325D1E88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EBC-0013-481C-B139-8FB7EC58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5F3-0924-4781-8744-A5C799B4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0DA-F388-4CE5-B49B-7861E426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2A4-C797-432D-B3AF-2CC5B62D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5A4-25B8-469A-B65B-96DA8953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127-E6FB-4903-BAB4-AD973D7B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A2F-6A0D-49B4-83B6-6F011F01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B6F-4B2A-4073-B25E-CAD96B7B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E5A47-D7DA-41CC-9D95-B7D6165F56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