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723782"/>
        <c:axId val="2800701"/>
      </c:barChart>
      <c:catAx>
        <c:axId val="787237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0701"/>
        <c:crosses val="autoZero"/>
        <c:auto val="1"/>
        <c:lblAlgn val="ctr"/>
        <c:lblOffset val="100"/>
        <c:noMultiLvlLbl val="0"/>
      </c:catAx>
      <c:valAx>
        <c:axId val="28007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237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EB6-44E7-405C-B6B9-EB166AE5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FC51-8D8F-41B9-ADE0-D60DF3248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8A39-69AB-4E94-A5C7-CC43B3AC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B4FE-897C-4ABC-90C7-A757570C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0349-FFDF-4354-AC24-950B81FE3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6FD-8988-4C74-B735-BF7A5879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E0AA-8383-490D-B99E-883B1857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EA17-630B-4983-A09C-FFB25F3A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7ADA-B70C-42F3-85E1-8617B44F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87D4-2A63-4693-86AD-CE4B3CC5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DB9-AA63-4777-B673-54B88CDA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D282-2241-4202-911F-0DAA2540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0CA2B-43B2-462F-BBD5-4801BF87CC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