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13208"/>
        <c:axId val="31461936"/>
      </c:barChart>
      <c:catAx>
        <c:axId val="27713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61936"/>
        <c:crosses val="autoZero"/>
        <c:auto val="1"/>
        <c:lblAlgn val="ctr"/>
        <c:lblOffset val="100"/>
        <c:noMultiLvlLbl val="0"/>
      </c:catAx>
      <c:valAx>
        <c:axId val="31461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3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2E97-E357-45B8-92D1-8C65432C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C6F-A9F2-4D74-935C-CD44B08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E47-5371-4BEB-94B8-2DE5A9C4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9FB-2F3E-4383-8719-F6F96149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42F-163F-4CE7-9FBB-A81F2E8D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5B3-E812-48AE-B8A2-F73A3BB4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F1E1-1F09-4663-AD2C-D9EFBC05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9A0-46D1-410B-A2B1-F16EE74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51C-2B79-4D6C-803F-D691B43E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1CF3-9A8B-401F-B4F2-CF97EDED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A7C-5C7E-4614-824F-D4F8E79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1AE7-344B-41D5-97D5-D2796D1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49DE0-6E2F-4447-96B8-3C71533505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