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48660"/>
        <c:axId val="26312172"/>
      </c:barChart>
      <c:catAx>
        <c:axId val="71748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12172"/>
        <c:crosses val="autoZero"/>
        <c:auto val="1"/>
        <c:lblAlgn val="ctr"/>
        <c:lblOffset val="100"/>
        <c:noMultiLvlLbl val="0"/>
      </c:catAx>
      <c:valAx>
        <c:axId val="26312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48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06B-6DDE-442E-ADA8-E0A140F4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CBB-2A87-4EE3-A5F0-044CAAE6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43E-6B79-4CC3-BE4E-CCC8BFC6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A46-6696-409E-8F9A-6A809653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D9A-9F57-4B98-9C1D-5C4BD6AC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01A-37C4-4E41-98D2-21A987E2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C48-1FC6-4EB8-86CB-E15E94BE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7A4-5F7A-45A4-AB6D-FF6158B5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CF9-6C65-4260-B3B7-27228D0B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C4B-2A98-4027-8348-DEBA674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00B-F5D8-4E9B-81DF-29B2B20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EF7-F056-4D3D-B4D5-C30052B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BF681-E8AB-44ED-BDBB-86C3B9CDF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