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271933"/>
        <c:axId val="20480493"/>
      </c:barChart>
      <c:catAx>
        <c:axId val="262719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480493"/>
        <c:crosses val="autoZero"/>
        <c:auto val="1"/>
        <c:lblAlgn val="ctr"/>
        <c:lblOffset val="100"/>
        <c:noMultiLvlLbl val="0"/>
      </c:catAx>
      <c:valAx>
        <c:axId val="204804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719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063E-CC4F-410C-95FC-6931FB9A9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D5B9-C5F2-412B-B04C-5B187189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108F-DF1D-4466-9052-983CF36D9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1B48-A3A3-47B6-8AF3-0E37BB09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E274-2CE4-4BCF-8BF2-26B20610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F36B-E03A-4507-956B-001E790E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D331-EDD8-48D3-96E3-23360C8C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7BC7-88FA-4491-899E-F86DA06A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F7C5-4969-46C2-8CAD-2B6D8D7B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EAA8-BCB2-4658-AA72-7C0946F2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7D28-09F8-4363-85A4-33EF6DE8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BA30-0DE8-4448-9EC9-4BEBCB64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FBBA7-0203-4654-BD7C-9BF8EAF2F2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