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41465"/>
        <c:axId val="31772150"/>
      </c:barChart>
      <c:catAx>
        <c:axId val="99441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2150"/>
        <c:crosses val="autoZero"/>
        <c:auto val="1"/>
        <c:lblAlgn val="ctr"/>
        <c:lblOffset val="100"/>
        <c:noMultiLvlLbl val="0"/>
      </c:catAx>
      <c:valAx>
        <c:axId val="31772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41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3D6-EC4D-4DBD-A2DB-3A690D5B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08D-BF3A-48BE-878D-F946A312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507-8C89-4842-AA83-23EC237C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596-9592-4731-9BB6-F8ABB300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B14-E3EE-4DB0-AEE0-986A8BBD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4C2-F265-4AA8-927C-B714562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413-37C7-46DD-AAD8-C86C2AC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6BC-F6E9-45CE-B6F6-80BCC39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FC0-06EB-4FA1-9DD8-7CA355A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730-1EFD-4F9E-8ACB-986D03D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B58-CCA4-4FFE-97A0-4CE3179E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3AA-82E2-481A-BBE1-5C9D796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190A-6FD0-45CD-99E7-B0ECC1D07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