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03652"/>
        <c:axId val="72094300"/>
      </c:barChart>
      <c:catAx>
        <c:axId val="78403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94300"/>
        <c:crosses val="autoZero"/>
        <c:auto val="1"/>
        <c:lblAlgn val="ctr"/>
        <c:lblOffset val="100"/>
        <c:noMultiLvlLbl val="0"/>
      </c:catAx>
      <c:valAx>
        <c:axId val="72094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3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E57-F5EB-4766-990F-C0CDE53D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5DF-8F9F-40D7-809E-FA92577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81C-BC87-41CF-94CA-5DD34197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46E-7497-4778-8E31-6E46EE62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17F-BB60-493A-94B7-BF1673D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5B0-22B4-42D6-94B6-8790740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A77-2946-44A9-8722-4F8FB88D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C98-46E5-44B0-9DC8-E62D7B40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246-6C17-433D-8597-41706C0C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468-C3D3-4607-9464-863972B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E13-651A-4923-8EEE-DB9E002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B88-2BF4-4B9C-B3AF-753E391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6E245-8846-4AA0-A720-8C6E364170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