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60392"/>
        <c:axId val="65369093"/>
      </c:barChart>
      <c:catAx>
        <c:axId val="515603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369093"/>
        <c:crosses val="autoZero"/>
        <c:auto val="1"/>
        <c:lblAlgn val="ctr"/>
        <c:lblOffset val="100"/>
        <c:noMultiLvlLbl val="0"/>
      </c:catAx>
      <c:valAx>
        <c:axId val="653690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603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5A7E-9083-45F3-9DD6-7C48C471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2580-F3F1-4E01-A9F9-76A033FF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FC6-925D-4174-9E82-0ED2B832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5951-8B11-425C-AB97-0A698912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86C-4B90-445E-A96E-BCC34465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471-2778-4BBB-8930-92085FE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22C-723A-40D4-B3B4-CE5CEFF9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ACC-13DB-44F2-88E1-D9D960A4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7A9-94D4-44AD-85EF-D06D96E7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D1C9-93EA-4525-8947-4893E225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B081-F462-4E5C-85BB-86AF14E3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5F32-2D78-4100-B2EB-79EF427B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F518D-9B73-4BD4-9541-5EF6F38C5D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