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00148"/>
        <c:axId val="40706457"/>
      </c:barChart>
      <c:catAx>
        <c:axId val="40600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06457"/>
        <c:crosses val="autoZero"/>
        <c:auto val="1"/>
        <c:lblAlgn val="ctr"/>
        <c:lblOffset val="100"/>
        <c:noMultiLvlLbl val="0"/>
      </c:catAx>
      <c:valAx>
        <c:axId val="40706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00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FEB-C5A9-4F62-BCAA-907233D2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3010-4880-4182-8287-861A172B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25D-60E3-46CF-AAFD-7C19C754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74A-BEAB-49F1-858B-16F146BF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51A-7782-452C-A996-5058E7EB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06E-C787-40B7-805B-63A195E3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2A2-9560-410C-881C-29B3B13C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621-44FF-49FB-9ACC-D9EE6BE8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5A7-3CC6-4BBA-8A73-D21350B8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FBA-288A-4B9A-9CB0-B7B435A4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436-E72F-494A-B3F0-F063D6A8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E6BE-4D5E-4226-BB37-C1F33A54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6AC26-36B5-47B5-9295-F105CF2AF7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