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32958"/>
        <c:axId val="55874948"/>
      </c:barChart>
      <c:catAx>
        <c:axId val="341329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74948"/>
        <c:crosses val="autoZero"/>
        <c:auto val="1"/>
        <c:lblAlgn val="ctr"/>
        <c:lblOffset val="100"/>
        <c:noMultiLvlLbl val="0"/>
      </c:catAx>
      <c:valAx>
        <c:axId val="558749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329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08E4-6A21-4E7E-AB2C-1AEDAB7E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BD6-4FB9-43E6-8F16-F60A2AB1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F9C-25CC-4ACA-AD4E-A37A2FA4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577-6040-4E02-BBF3-2A361E7A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0C8-4E89-4044-8D75-A21E93C3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E9A3-22B1-4B87-A4F4-E1D6CD68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77C-47FA-4EA9-BB16-E7D21DCF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064-BF06-48F8-AD49-A98251AC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3FA-BC09-44D7-A671-1678079C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4E9-EDAD-4B20-A402-914562D0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CCA-A9D4-49F0-AF51-E6EE3791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CC31-4EA4-4AA2-A25B-49B17034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A4542-D9BC-41CD-912C-2265F3A416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