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142473"/>
        <c:axId val="52067742"/>
      </c:barChart>
      <c:catAx>
        <c:axId val="28142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67742"/>
        <c:crosses val="autoZero"/>
        <c:auto val="1"/>
        <c:lblAlgn val="ctr"/>
        <c:lblOffset val="100"/>
        <c:noMultiLvlLbl val="0"/>
      </c:catAx>
      <c:valAx>
        <c:axId val="52067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2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80C-A5FB-42ED-A8F3-A4805AE9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ECB4-D3BA-451A-A141-B9D43977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BA7-CE1E-413F-ABC7-95DA2E6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CB8-4B05-4FA0-9FEE-29594FCC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F24E-9E8E-42DE-B56A-9272464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F42-0686-4475-8938-496B0605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AE2-7478-4E43-B16F-73CE6DAA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5F3-1BB4-4C7C-8FB1-D7D552F5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323-4721-43EB-A065-DD5FDA6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6F8-1331-434F-AFC5-8FB984A5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985-A672-4620-B3E9-E892497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C57-B1FE-42B7-9E8F-0B9FA627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30803-F382-4DFE-935C-64DAA1431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