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95257"/>
        <c:axId val="36145269"/>
      </c:barChart>
      <c:catAx>
        <c:axId val="71395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45269"/>
        <c:crosses val="autoZero"/>
        <c:auto val="1"/>
        <c:lblAlgn val="ctr"/>
        <c:lblOffset val="100"/>
        <c:noMultiLvlLbl val="0"/>
      </c:catAx>
      <c:valAx>
        <c:axId val="361452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95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2D30-D4C1-4BEA-9901-8D01E664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E16-4BDC-418F-A301-7462AE8A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0B5-E3AC-494F-B589-3E4E176A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D73-8CFD-46A4-97A9-C631D9F0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3A8-A464-46AE-B0DE-BE82A8DD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CB8-1D3A-42EF-BC05-559E48F7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E4F-1FC3-4C58-8F77-2D57AC5E5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4B9-84F0-4721-850B-1CCEC4B7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770-2B90-494D-AC47-6F53F7FD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20D-67EE-499D-AC33-F6F09D46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D17-4F63-4C5B-BCA2-C9832F8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A77-746E-44C8-B4C3-1330AF76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596CA-B3DD-4E80-90B3-AD35B9117B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