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75716"/>
        <c:axId val="86358190"/>
      </c:barChart>
      <c:catAx>
        <c:axId val="26475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58190"/>
        <c:crosses val="autoZero"/>
        <c:auto val="1"/>
        <c:lblAlgn val="ctr"/>
        <c:lblOffset val="100"/>
        <c:noMultiLvlLbl val="0"/>
      </c:catAx>
      <c:valAx>
        <c:axId val="86358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75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5A0-8C02-4982-8E66-07BB8FCD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113-3361-4C5B-B0AF-AB6CF782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7C0-E48C-4F70-BF28-0E784846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AAA-BF21-4D36-B528-6CD6F0D2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2E7-C954-45AC-9A95-2C102940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464-4AAB-4678-AB34-337F251F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9BC-3553-45FF-9418-07BB083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835-8C7C-49B6-B1EC-FECC812C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F49-7F05-4830-9952-EFFBCEEA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95E-E230-4F24-BAD8-5A9FBF0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83C-D4FE-4465-8A27-B89CEF26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814-1E00-4740-83E7-A613C5D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94F81-6633-4AC5-A249-9DFBA47B7F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