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02079"/>
        <c:axId val="27730738"/>
      </c:barChart>
      <c:catAx>
        <c:axId val="48802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30738"/>
        <c:crosses val="autoZero"/>
        <c:auto val="1"/>
        <c:lblAlgn val="ctr"/>
        <c:lblOffset val="100"/>
        <c:noMultiLvlLbl val="0"/>
      </c:catAx>
      <c:valAx>
        <c:axId val="277307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02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8089-55A0-4FB2-A647-05D22A2F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3573-9423-4A88-8FF9-325D927A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CCA-7813-4306-8749-615E2401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379F-7FEA-408C-B159-A3455533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226A-024D-4E13-AAD9-22E26137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76E-5FD9-4057-A69B-52B02A9B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CE7-448B-44D9-9770-CE46ED26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32CC-FD63-407A-A6EE-CE02A3CC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B59F-361F-4B2A-BED1-3F48E662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E79-A184-4AAF-8ED2-033FAF3F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5C53-DEF2-4B86-9594-90B55ED2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D86A-C827-4DA2-A553-554BC48A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36207-406A-4DF7-A547-74DE261295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