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637025"/>
        <c:axId val="78504960"/>
      </c:barChart>
      <c:catAx>
        <c:axId val="946370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504960"/>
        <c:crosses val="autoZero"/>
        <c:auto val="1"/>
        <c:lblAlgn val="ctr"/>
        <c:lblOffset val="100"/>
        <c:noMultiLvlLbl val="0"/>
      </c:catAx>
      <c:valAx>
        <c:axId val="785049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6370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D914-9501-4ADE-B4E1-DA7A25931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871E-C8D3-488C-BC32-3FD77B1A9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740E-4742-480D-B2E8-13D95F4DA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F32F-0FCD-4787-A888-5F8FC0FA0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02E3-9843-46C9-BC0E-29DBED523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41E4-2AD6-4F3C-8BEE-1120BF10C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E139-3027-4C2B-8EF3-6D71E2B56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805A-7E42-4174-8193-148C9B08A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4725-BEAE-4678-8AB4-DA3A36779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C4F0-082E-4B76-B1A4-29F06581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85D7-1F74-4514-9B3D-B29063F7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0F12-93EB-424C-B680-C6F1E6BA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956DB1-EE30-4B19-8615-F0963DBDE2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