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063029"/>
        <c:axId val="52717276"/>
      </c:barChart>
      <c:catAx>
        <c:axId val="700630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17276"/>
        <c:crosses val="autoZero"/>
        <c:auto val="1"/>
        <c:lblAlgn val="ctr"/>
        <c:lblOffset val="100"/>
        <c:noMultiLvlLbl val="0"/>
      </c:catAx>
      <c:valAx>
        <c:axId val="527172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630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DBF-AC61-48E8-B5F7-AE613BD7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F9BD-E516-4633-AA94-D7C42C4F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E908-B0C4-4A31-9596-2FA3DB2B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4A5F-5A6B-4101-B276-A174C18B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C625-A5C5-4A46-A4B6-0C685774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E49-3E2F-4557-8A05-5C1933BD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7B8C-8344-465F-8E40-67810522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B28F-551B-4B84-9865-4FE14555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A951-05F7-4A6C-A6A6-D3CD99D1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905A-4558-47CC-87EE-CEBAEC8F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CC64-3F16-483C-BDEA-6EA49735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95C-51B4-4C17-9AA3-5B86DADB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365BB-BDFE-4218-B25D-63BEE877BA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