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06172"/>
        <c:axId val="72106307"/>
      </c:barChart>
      <c:catAx>
        <c:axId val="95706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06307"/>
        <c:crosses val="autoZero"/>
        <c:auto val="1"/>
        <c:lblAlgn val="ctr"/>
        <c:lblOffset val="100"/>
        <c:noMultiLvlLbl val="0"/>
      </c:catAx>
      <c:valAx>
        <c:axId val="72106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06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734-AD26-40B8-8CA2-7466766E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133-F139-4002-9F61-2F12114E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FCE-D127-4680-A4E3-697E3777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069-974C-4341-A33B-9ABDCD6D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C3D-AADB-4332-801C-A9556363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1FC-4250-451B-AFF6-D8DBB6E6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FB1-5938-4FD0-B5EC-C712998A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11F-44C3-49BB-BA17-8B8A0219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BF3-9749-462D-89A8-17E1788B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F32-9382-44CA-AA68-B6F89660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D35-865D-4772-88E3-651135E0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F6F-4CC9-4582-8126-4B600FF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1822C-1DA1-494C-82F9-D0101CAFC4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