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75059"/>
        <c:axId val="78069313"/>
      </c:barChart>
      <c:catAx>
        <c:axId val="85975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9313"/>
        <c:crosses val="autoZero"/>
        <c:auto val="1"/>
        <c:lblAlgn val="ctr"/>
        <c:lblOffset val="100"/>
        <c:noMultiLvlLbl val="0"/>
      </c:catAx>
      <c:valAx>
        <c:axId val="78069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75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1BD-4279-4E62-B694-C131AB9A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344-C50D-4E52-8ED2-434E3D5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F2B-C54B-42F2-B8E5-799233E1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082-8F1F-4D41-8C95-39BC2B5B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2A8-EB8C-4A13-9894-D5929DA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900-32AE-43EA-82EE-9C2E7A88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488-BD77-4D47-AF9C-C2B2E11F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98A-3646-4C93-8FF7-6E2250C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907-D5D9-4A00-BDF6-C78425D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7BC-33E7-447E-A8D5-7B6FCB6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22D-990B-420F-B557-277E6C6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635-22F9-4F50-8679-88295E4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8D1E-CBAF-4AF0-BD44-59F2A9341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