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0915247"/>
        <c:axId val="15948964"/>
      </c:barChart>
      <c:catAx>
        <c:axId val="1091524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948964"/>
        <c:crosses val="autoZero"/>
        <c:auto val="1"/>
        <c:lblAlgn val="ctr"/>
        <c:lblOffset val="100"/>
        <c:noMultiLvlLbl val="0"/>
      </c:catAx>
      <c:valAx>
        <c:axId val="1594896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91524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2462C-E47B-4E6E-B620-A958CF8CE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D5B18-A230-45B3-829B-C085B4449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E6B2F-3CA8-46E0-A4B0-A4E1A015B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CE6A0-E921-43FC-A1A7-6FC460320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2C650-6952-4F9D-8E37-1A05FE068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1BF8D-5F83-474D-AABB-6B5C5CBF8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F8195-DA61-46D0-AC33-B2720E7C8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FCF2B-CD80-440C-96BF-F29DF89C4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31590-5E3D-4A8B-AF0A-05054EE0F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B7085-1961-4325-9DEF-4B7D97CFA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3B2E4-7610-4615-91A8-23CCABBA0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28B6D-0732-436A-9898-94A1A1689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83D148-18A3-4FD3-A5FC-1C839FFBA99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