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336370"/>
        <c:axId val="27627857"/>
      </c:barChart>
      <c:catAx>
        <c:axId val="603363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627857"/>
        <c:crosses val="autoZero"/>
        <c:auto val="1"/>
        <c:lblAlgn val="ctr"/>
        <c:lblOffset val="100"/>
        <c:noMultiLvlLbl val="0"/>
      </c:catAx>
      <c:valAx>
        <c:axId val="276278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3363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54A8-B78F-4186-97F9-FCEB8E1FC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87A0-B59C-485B-AF7C-FB1890E2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D873-8463-4E97-BD80-9FD9BB995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7F13-1468-439E-BBB8-103319C21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68DF-7D40-4911-BC03-8F8107E6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AF87-8239-4C46-A1A3-9D9C48CE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E3DD-1E70-4B70-829B-AF74767C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8627-91F9-45C1-8E45-14D4BB46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2D8D-DDB5-4C51-B491-347D4E34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E85C-70FE-4631-9732-7B02E601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1DB5-3B5E-4CCC-9F7E-0419CB6F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EEC4-5E34-450E-BB40-1C4D2533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E26C90-862B-41C1-8E0B-F3B7FBE1D5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