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29341"/>
        <c:axId val="7535605"/>
      </c:barChart>
      <c:catAx>
        <c:axId val="80229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5605"/>
        <c:crosses val="autoZero"/>
        <c:auto val="1"/>
        <c:lblAlgn val="ctr"/>
        <c:lblOffset val="100"/>
        <c:noMultiLvlLbl val="0"/>
      </c:catAx>
      <c:valAx>
        <c:axId val="7535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29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F75-9C94-428F-AD5A-0C8C57BC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F43-DE78-4ECC-96FF-91E8C5BE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800-0F65-4B28-A647-1ECBD93A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6AA-81BE-46A6-8042-6A391DFE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0E3-7F35-4488-B6DE-C237C5D6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A48-21E3-4AF0-B393-EF2295CD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479-7AB6-413A-B7E1-CEAE34DD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DFF-3DB7-4D4D-B253-870FA559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863-7FCC-4A8E-8C9B-3209F0DC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074-5A5F-48BF-87C2-A6DDB21E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B4F-8DFF-454A-9570-00F20563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550-5E9C-4773-8074-C969B472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29E59-8E91-4F22-825F-7A6E1C55FF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