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77351"/>
        <c:axId val="7851899"/>
      </c:barChart>
      <c:catAx>
        <c:axId val="35677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1899"/>
        <c:crosses val="autoZero"/>
        <c:auto val="1"/>
        <c:lblAlgn val="ctr"/>
        <c:lblOffset val="100"/>
        <c:noMultiLvlLbl val="0"/>
      </c:catAx>
      <c:valAx>
        <c:axId val="7851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77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B92-508E-4168-A0ED-350B4441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4B6-D08E-4754-80B7-48CA7145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ACA-3501-4D3E-9431-45B88FBB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B86-38E6-4439-B095-7DE48878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645-6097-493A-A8B5-E500581B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94B-0BE3-4F02-8760-C183ECF9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5BA-30BB-4692-845F-D6AC6FD0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ADD-4F22-45D6-A62E-290253BE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5B5-8F88-4A6E-BEE8-28412F85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D3C-BEA2-457D-9A5B-268B9DB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3A4-212A-4246-8301-AB5BB30F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279-3818-460E-818D-4BBDD00A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B728A-8EA7-48AC-A61C-341861B454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