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768267"/>
        <c:axId val="11241322"/>
      </c:barChart>
      <c:catAx>
        <c:axId val="397682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41322"/>
        <c:crosses val="autoZero"/>
        <c:auto val="1"/>
        <c:lblAlgn val="ctr"/>
        <c:lblOffset val="100"/>
        <c:noMultiLvlLbl val="0"/>
      </c:catAx>
      <c:valAx>
        <c:axId val="112413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682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377-45A5-4E42-AA60-2BFE65FAA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67C3-FF33-4EE6-819C-9A3C7CFA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1023-64E7-4C28-9E01-0F20557E6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433C-2C7A-4665-9C4E-5FC4892FE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9503-5BF8-4AC1-9962-1279FEFD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76C4-345D-4CB6-AE82-A12CCB9A9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8DBF-EF4D-4EF0-ACB2-A4E526EC4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4174-86C9-4490-9507-16A3A0BE2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D6B9-759E-4F80-8E9E-94B9141A5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4544-C21E-4C24-83A2-B80FE217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D3C-DCF6-488B-9794-67F2380C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88BF-8A79-43E0-8DE0-04AEABFAE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E2B712-83E5-4DD2-9CCC-2431531231C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