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94560"/>
        <c:axId val="28840296"/>
      </c:barChart>
      <c:catAx>
        <c:axId val="83694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40296"/>
        <c:crosses val="autoZero"/>
        <c:auto val="1"/>
        <c:lblAlgn val="ctr"/>
        <c:lblOffset val="100"/>
        <c:noMultiLvlLbl val="0"/>
      </c:catAx>
      <c:valAx>
        <c:axId val="28840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94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1D0-E627-4B87-A7D0-5F8F2B89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591-C0CB-4925-84E9-92662296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9CA-665F-4806-8C8A-D39BB18F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906-05CB-45FD-A549-37E6205C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BA3-DA76-49F0-AE87-D407D9F5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E0C-9C3C-47F1-B829-B9B25456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8C0-583C-41E1-920C-E383E0C8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626-EB3B-48D3-ABD2-A05A7A95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419-93B4-493E-9835-E3E60158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BF1-5191-4B03-978D-9C8894C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366-E2F6-46F6-AC4D-4AEDF16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E1E-6FCA-4FF8-8A2F-497976B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A70E1-18D2-4892-8E79-D307E05E40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