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37775"/>
        <c:axId val="89363459"/>
      </c:barChart>
      <c:catAx>
        <c:axId val="46037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63459"/>
        <c:crosses val="autoZero"/>
        <c:auto val="1"/>
        <c:lblAlgn val="ctr"/>
        <c:lblOffset val="100"/>
        <c:noMultiLvlLbl val="0"/>
      </c:catAx>
      <c:valAx>
        <c:axId val="89363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37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BC4-988E-4AEE-96F3-E14ACDE4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436-08D9-4E33-81DA-B8866FFB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E64-648C-47F6-AD01-CEC4A474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62F-E27F-4DEA-8509-D1460E02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EBB-ABBF-4324-8178-C1665833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F95-8B32-4CCA-B240-4D7E159C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53B-A578-4469-9327-3D3AFCA0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A36-49D3-4456-944F-0AD5785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5AB-C890-4853-B8B7-127B7504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1C1-695A-4C20-8167-A2BF00A5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93E-F1DD-495D-B143-635A31A6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351-9B0B-4035-B853-D654522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9E45D-022E-44A6-B0D3-3169F73017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