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67675"/>
        <c:axId val="24530956"/>
      </c:barChart>
      <c:catAx>
        <c:axId val="26567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30956"/>
        <c:crosses val="autoZero"/>
        <c:auto val="1"/>
        <c:lblAlgn val="ctr"/>
        <c:lblOffset val="100"/>
        <c:noMultiLvlLbl val="0"/>
      </c:catAx>
      <c:valAx>
        <c:axId val="245309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67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FDC-AF05-4D9E-A3CE-DB5E5EA3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D094-A31D-4B8E-B007-4348154F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BA3-3E9A-40E0-A1E2-99B7CA3F9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118A-5573-4E70-91C9-854699D5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14D-011F-43B3-8050-0DD4DD3B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844-D945-4C72-BDAD-516BF246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87C7-EC53-4F2C-88DA-0EFF5D0F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68D-1CD7-4887-B8A3-C1CB105E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CB4-7078-4533-A8AF-8991E9D0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D2F-3AB6-45DE-B7D0-A13D6538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959D-F6AC-4DB2-97FB-47DB256A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EE74-BD21-4197-AD5C-D7479021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82115-58F2-4C1B-B875-D0F73D24B9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