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88104"/>
        <c:axId val="1018255"/>
      </c:barChart>
      <c:catAx>
        <c:axId val="74088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8255"/>
        <c:crosses val="autoZero"/>
        <c:auto val="1"/>
        <c:lblAlgn val="ctr"/>
        <c:lblOffset val="100"/>
        <c:noMultiLvlLbl val="0"/>
      </c:catAx>
      <c:valAx>
        <c:axId val="1018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88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618-44CE-4CC2-97E7-93E91B3B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25C-C439-42FA-AF3C-5449986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FE3-C9C2-4536-94E7-3408079E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68A-8233-4173-BC2A-62D560C8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BCB-82AB-4EEA-B73C-BE0177B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AB8-B83F-4339-854A-13AA011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2FA-1B12-4C12-8745-A720ABB1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D70-0FAB-4953-A6F6-71273DC9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101-74B9-4A09-A551-8703AA6A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9F-812D-49B1-8146-30035CA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567-CC92-4823-9B21-7516296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F8F-F0A7-4454-90BA-02D0B412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1CC7-E841-4391-9C6C-4BE382BD6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