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519"/>
        <c:axId val="87982582"/>
      </c:barChart>
      <c:catAx>
        <c:axId val="974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82582"/>
        <c:crosses val="autoZero"/>
        <c:auto val="1"/>
        <c:lblAlgn val="ctr"/>
        <c:lblOffset val="100"/>
        <c:noMultiLvlLbl val="0"/>
      </c:catAx>
      <c:valAx>
        <c:axId val="87982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27A-9679-4CB7-A306-F33F09F9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ACD-3230-4A96-B254-319CA5F2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2AA-CD8D-49F7-AD15-41ED36A4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7A0-8D59-4401-A644-5CC97735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839-2A84-46C2-BA97-0F0F2C3C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D03-A8DB-4334-9F56-2BBB9A41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6F7-E713-4B1E-B411-B50CC6EB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A9C-D3B4-49CB-802E-C63378B3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78C-B7CE-4EF3-821A-E540F055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3F9-F995-4D9B-9E46-6C14F000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0AB-EC97-454E-9B72-9D03E05E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298-70E2-4115-BE3A-3DDE694F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113AB-DAD9-4F88-875E-D28DB143C1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