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607153"/>
        <c:axId val="60706718"/>
      </c:barChart>
      <c:catAx>
        <c:axId val="246071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06718"/>
        <c:crosses val="autoZero"/>
        <c:auto val="1"/>
        <c:lblAlgn val="ctr"/>
        <c:lblOffset val="100"/>
        <c:noMultiLvlLbl val="0"/>
      </c:catAx>
      <c:valAx>
        <c:axId val="60706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6071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1B6-4C7C-4977-A15B-1E6EC404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738-8BA5-45B0-935F-F115507F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765C-D3F2-4D72-BE63-0EEB6BDB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E62-7425-49FB-9745-2A4C1CBC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9B4-EA86-4B15-A096-4E6B0BEA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0C5B-18E2-4A1B-8C1C-EDB9CE13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73F-2177-4655-BCB9-558C70B9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4DB-1DF7-4DDA-BA78-0407C91A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D6E-2BB2-428C-81AD-3717260E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2EBB-73FC-449E-A2C3-EC8351DD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84B5-8A07-49DB-9654-65A282AA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EA1-DD1A-4CB4-88ED-191810FF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32C3D-6A2F-4A52-9571-D3E39FE3A1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