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00060"/>
        <c:axId val="84864395"/>
      </c:barChart>
      <c:catAx>
        <c:axId val="38400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64395"/>
        <c:crosses val="autoZero"/>
        <c:auto val="1"/>
        <c:lblAlgn val="ctr"/>
        <c:lblOffset val="100"/>
        <c:noMultiLvlLbl val="0"/>
      </c:catAx>
      <c:valAx>
        <c:axId val="84864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00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004-838A-4956-B4B8-AB30B6BD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9AE-3BED-49C3-A6C9-028DABD5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B2C-1831-44D0-9918-2927E5B7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968-0BED-45A4-9234-4C044E51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695-B198-400E-BA59-10BE3222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917-F78A-4BEA-B2F1-BC2766D3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416-4858-4223-8BD8-95FC06B7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4E3-0026-4E56-B110-340DAAA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281-0650-4F85-96AD-C3F6C41D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1B1-8ADC-4627-8744-B8266663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1E0-9103-41B5-8DD8-179235A6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DD0-B7A4-48D6-A19E-A4F80FA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D5DAC-54B9-41F4-BB67-F366999336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