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26530"/>
        <c:axId val="1707735"/>
      </c:barChart>
      <c:catAx>
        <c:axId val="18026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7735"/>
        <c:crosses val="autoZero"/>
        <c:auto val="1"/>
        <c:lblAlgn val="ctr"/>
        <c:lblOffset val="100"/>
        <c:noMultiLvlLbl val="0"/>
      </c:catAx>
      <c:valAx>
        <c:axId val="1707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26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4D4-1DFE-4183-9783-25E57943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18C-5675-420C-9CA4-52D39668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7F1-3409-4EEB-A0DA-894C8068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004-1F0B-439E-8A7B-6A156906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926-5413-4042-9118-7CB4B47B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0DB-8958-48FD-AB58-283505C3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C70-3C90-4370-84A0-4314E18B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42F-1770-4B8D-8665-015CAF5D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785-5E68-464E-B590-881B7C15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A1A-8463-48EE-8BB8-76872FE9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9BE-87AB-4E84-A10D-1841F5D6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499-147C-428A-94D6-D9D5D4FD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94AED-2E11-49D4-8DC1-F8D7AED600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