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599434"/>
        <c:axId val="14879960"/>
      </c:barChart>
      <c:catAx>
        <c:axId val="39599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79960"/>
        <c:crosses val="autoZero"/>
        <c:auto val="1"/>
        <c:lblAlgn val="ctr"/>
        <c:lblOffset val="100"/>
        <c:noMultiLvlLbl val="0"/>
      </c:catAx>
      <c:valAx>
        <c:axId val="14879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99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B1B-EC8F-450E-80EC-34B278B9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1E1-09A4-44D1-A97E-625633E3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24D-B61E-4963-88F7-DFD71BCD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0CF-3B37-4038-9900-A33456A0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ED4-5D94-461C-A5C1-B91549C6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B36C-B731-4DFE-90B0-A72A6C06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49B-D228-4E06-92CD-A6594C7E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9320-093B-4F41-BFC7-D84804EA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22F-94C5-4AFD-B746-9AED6C7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B139-0CC7-42D2-AF8B-6844D426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015-13A7-43BC-A895-9035B062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BAB-8B53-4199-A032-E00E7B6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D1978-F193-4565-9FA1-1FE872F914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