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947574"/>
        <c:axId val="88277766"/>
      </c:barChart>
      <c:catAx>
        <c:axId val="96947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77766"/>
        <c:crosses val="autoZero"/>
        <c:auto val="1"/>
        <c:lblAlgn val="ctr"/>
        <c:lblOffset val="100"/>
        <c:noMultiLvlLbl val="0"/>
      </c:catAx>
      <c:valAx>
        <c:axId val="882777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47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CC93-76F1-4045-9D31-358E7568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38A-DAC5-4241-86EF-76D77537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DE87-BE66-48C0-9915-7D4D1396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DB6-2A93-4EA0-8DDC-893C837E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ADBF-5941-4CBF-B774-A75266ADD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3A96-FACE-4BBC-A944-B46D87D9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4874-792B-4F3C-BDF2-AE9EACFD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73BC-654F-4C24-AC44-3D8AA9A0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BB8-65D7-4BF3-B143-EC31A673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2D8-F940-43D2-A0F6-F9234A9F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4AC-4054-4FC8-BF48-8C1668C1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C66-8F22-48C0-8303-4986A054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CE68E-D520-4396-B8E1-89540840C6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