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1638"/>
        <c:axId val="25237896"/>
      </c:barChart>
      <c:catAx>
        <c:axId val="2411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37896"/>
        <c:crosses val="autoZero"/>
        <c:auto val="1"/>
        <c:lblAlgn val="ctr"/>
        <c:lblOffset val="100"/>
        <c:noMultiLvlLbl val="0"/>
      </c:catAx>
      <c:valAx>
        <c:axId val="25237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1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549-EB5E-492B-9916-129E0F7C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4EC-F387-4332-B3B8-B0AA9B30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8AF-2797-4C80-8F63-E840E579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D76-4550-4FBD-99D8-A388264B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E69-D7F1-4F76-892C-DDF9979B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ABE-34C4-4DC6-AE15-834E6D4E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633-FDB5-4834-8129-AF915B80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B34-EE99-4540-8118-C439FF51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A34-0E2A-41E2-B825-6C8B2992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AED-1755-4A69-A49C-A8BB4224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D2D-3E49-471B-92A5-29057C70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AD9-76F5-4D52-8B92-A67F26E7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E3414-A1D4-4AD4-9A18-1C830CC162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