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38520"/>
        <c:axId val="66264816"/>
      </c:barChart>
      <c:catAx>
        <c:axId val="87538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64816"/>
        <c:crosses val="autoZero"/>
        <c:auto val="1"/>
        <c:lblAlgn val="ctr"/>
        <c:lblOffset val="100"/>
        <c:noMultiLvlLbl val="0"/>
      </c:catAx>
      <c:valAx>
        <c:axId val="66264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38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C06-EDDC-410D-8789-29C363C8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CE2-8B08-42AD-8D60-22CF3E0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92F-E0EF-4ABE-A0CA-7907A16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89B-24AD-41CF-8300-8A7583C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650-EDC3-43FE-8C59-F12B0C76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0F4-0421-49B2-BE9F-0FD0959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23E-4224-4411-9D24-BA7B22A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79E-7CF5-42A0-9AEE-AE00C83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E81-711E-4719-8E2B-5970A91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62C-5DC2-407C-A172-92E297C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BD4-2CC4-480C-8020-1FC0AD6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8B1-99B5-44D1-A4EB-B7BEE74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7073B-246F-40FD-8332-308424787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