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48582"/>
        <c:axId val="70702563"/>
      </c:barChart>
      <c:catAx>
        <c:axId val="182485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02563"/>
        <c:crosses val="autoZero"/>
        <c:auto val="1"/>
        <c:lblAlgn val="ctr"/>
        <c:lblOffset val="100"/>
        <c:noMultiLvlLbl val="0"/>
      </c:catAx>
      <c:valAx>
        <c:axId val="70702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485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CE2-EE38-4848-B208-EFFBEC50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C77-634F-4C13-B8A5-C58CB201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C637-98DB-4D2E-B621-9B1351DC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B44-1D47-4BA4-959F-48CB2D1C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000-9A5F-4E84-8D49-7A4E0B43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BC7-DB92-4897-A3FF-1641A5D7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5A6-10E4-4CFB-9E6E-00EA9DED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F10-0CD4-4E5D-9874-A5E29B20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543-080C-43BD-B5BE-BAA8BCD3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AF1-CB5F-4C43-8337-1CE89BD9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4E5-9B31-42E1-AE89-9CD8A20F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2E2-F1CE-4E4E-9119-AC20D495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A38B3-8FB1-4A59-98E2-E79A999C2D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