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34241"/>
        <c:axId val="82600261"/>
      </c:barChart>
      <c:catAx>
        <c:axId val="81134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00261"/>
        <c:crosses val="autoZero"/>
        <c:auto val="1"/>
        <c:lblAlgn val="ctr"/>
        <c:lblOffset val="100"/>
        <c:noMultiLvlLbl val="0"/>
      </c:catAx>
      <c:valAx>
        <c:axId val="82600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34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726-7EE5-49AD-8A80-C2031D4D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9F8-05B5-49B0-99AB-AEF10D8A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33B-FA10-4438-8939-4F646ADD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3D7-84EF-483F-B85A-789816D5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694-B4D2-41AD-8261-F310D02F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238-C3A7-4B4C-9C7D-CCF3E7F9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FCD-1D95-4E8F-8F2B-E23EDF8F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A4B-AF3E-4B0E-B2A6-7A7B2C78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9E5-9E8B-40EC-8B8A-E3A7FD07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4DE-7CBF-4B97-8E93-D53E8EA0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501-DCFD-49A4-B71E-06B21C7A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D6C-AC95-4606-A95E-F9B58F6E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62FDC-4670-43DA-86A0-E7A50D09F0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