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42720"/>
        <c:axId val="97809311"/>
      </c:barChart>
      <c:catAx>
        <c:axId val="98442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09311"/>
        <c:crosses val="autoZero"/>
        <c:auto val="1"/>
        <c:lblAlgn val="ctr"/>
        <c:lblOffset val="100"/>
        <c:noMultiLvlLbl val="0"/>
      </c:catAx>
      <c:valAx>
        <c:axId val="97809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2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187-B405-4DDD-8369-1A367AE9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EFE-95EB-434A-B2ED-AA92C642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949-671C-45A7-B403-B75698DB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637-A7AB-403C-9455-5337996E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721-BF4A-4C58-B6AD-3ACDA3E3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54F-0F51-4ADB-BF8E-0E542922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CA7-C3D1-4002-AD0B-4CD9412F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363-199F-41F6-9095-42D460DE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1FF-358B-4296-9755-6EC1BCB2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7A6-6384-4FF7-A520-DE6D332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D9E-33C7-4C24-A267-113B95E5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15B-BAD3-4C5F-8CE8-DEE8DD8B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7D470-B5CD-4FE2-B47D-CAEBB96965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