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87193"/>
        <c:axId val="41382595"/>
      </c:barChart>
      <c:catAx>
        <c:axId val="76987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82595"/>
        <c:crosses val="autoZero"/>
        <c:auto val="1"/>
        <c:lblAlgn val="ctr"/>
        <c:lblOffset val="100"/>
        <c:noMultiLvlLbl val="0"/>
      </c:catAx>
      <c:valAx>
        <c:axId val="41382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87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A80-59BC-40A9-9303-640F2C44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787-7C03-456C-8F07-B10366A8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D5E-CFB2-43E4-9C40-A5033426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2C3-BF5C-4A3C-B3FE-269F4531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F4F-C0C2-49DA-AD76-D93C1717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4E7-5004-4CD0-99BE-F71637C1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5F3-5394-4388-A20C-C299439F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B2F-4866-4747-AFFB-120A2BC6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6A6-BB08-4594-97A6-44748094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7FB-B2CB-4540-88BB-7AD238F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421-B5AE-4DBA-98E8-15BCBAFB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84C-182A-4BD1-8FEC-064A6626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CC3E4-9A7F-40F3-AFF6-A629F999E5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