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91519"/>
        <c:axId val="24932180"/>
      </c:barChart>
      <c:catAx>
        <c:axId val="85391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2180"/>
        <c:crosses val="autoZero"/>
        <c:auto val="1"/>
        <c:lblAlgn val="ctr"/>
        <c:lblOffset val="100"/>
        <c:noMultiLvlLbl val="0"/>
      </c:catAx>
      <c:valAx>
        <c:axId val="2493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91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C1-E1A2-449C-BEC0-C0541FE0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DE4-6119-41A8-BF25-9BCF5C9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D87-0E36-4B8E-9267-BFF39C9B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403-741B-46E7-A735-9847F5FD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199-B945-4970-9CDC-91593DDF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45B-F8F7-47BE-9D44-1ADE759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8A5-46E1-46E9-B908-18B867F9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F63-D557-431A-B566-B72111FE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8EF-EE69-44B6-AE04-E899ACA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C58-9D7A-4B27-9D49-14160A2E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289-1FAB-4772-BC7C-A391BA7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5ED-0F71-49AC-ACA5-7172FDF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165AC-A336-4D3A-A92C-42916A8E2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