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7649"/>
        <c:axId val="10523229"/>
      </c:barChart>
      <c:catAx>
        <c:axId val="1087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23229"/>
        <c:crosses val="autoZero"/>
        <c:auto val="1"/>
        <c:lblAlgn val="ctr"/>
        <c:lblOffset val="100"/>
        <c:noMultiLvlLbl val="0"/>
      </c:catAx>
      <c:valAx>
        <c:axId val="10523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7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1D4-BF9E-43EC-84AD-68677121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5EA-9AEE-4110-99E6-C25D4395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12E-84A8-44F8-B018-BC8B5A2E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432-F358-4F81-97E3-33163CD8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B512-2201-47F6-B13B-E49880C8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541-9B8F-4A21-8406-14896E37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B48-6BBC-4E96-8D73-4FFF2FD9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2AE-2505-448A-8C06-E66AA5A4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C5F-7C9F-4BC7-ABB2-7F059E0B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DA6-D7EC-4FF8-9B69-AC0D86D5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3CD-5710-4DEB-8C3F-6BC486A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F40-F975-4860-853B-7EB0FF60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0CCBA-6C65-4678-B7AE-6D38865EBC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