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45844"/>
        <c:axId val="44447442"/>
      </c:barChart>
      <c:catAx>
        <c:axId val="63545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47442"/>
        <c:crosses val="autoZero"/>
        <c:auto val="1"/>
        <c:lblAlgn val="ctr"/>
        <c:lblOffset val="100"/>
        <c:noMultiLvlLbl val="0"/>
      </c:catAx>
      <c:valAx>
        <c:axId val="44447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45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D15-D27B-4A35-9B43-1605FED6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FAD-36F0-403D-A09F-D0899C82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9AB2-6912-434E-A830-FE3A6CFA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571-7ABF-4A23-AAB2-0849E1E4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430-41C3-40D5-A467-3DF56978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2F9-C2AC-46AC-AB50-BEEF00B7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FC0-1B4E-453E-A90F-BD11206E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3A50-6268-4DC4-A70F-3ACB29C8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E36-9F12-4D8B-B573-9648FA5E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B8E-F81B-4ADB-80C2-DDAFB65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0E8-2D22-4AD5-B5D7-2AEC00AB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BEF-5A19-4ED9-A9DE-531E2E9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2AA9A-1BF3-4460-9318-C580D0E699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