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89436"/>
        <c:axId val="7841609"/>
      </c:barChart>
      <c:catAx>
        <c:axId val="95389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1609"/>
        <c:crosses val="autoZero"/>
        <c:auto val="1"/>
        <c:lblAlgn val="ctr"/>
        <c:lblOffset val="100"/>
        <c:noMultiLvlLbl val="0"/>
      </c:catAx>
      <c:valAx>
        <c:axId val="7841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89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5F0-20CC-4307-AB7C-901701CC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993-2524-4711-B72E-0BDD802C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DD2-FF49-4A10-8F84-FE9E4AB6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89B-F9D4-4CFC-85B5-876B899D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BF2-BF53-4598-A267-8D77D288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2A0-C83A-4094-A1D5-C705C717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018-24C1-4F84-9E30-E8D0F2D5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CAB-43C3-42B1-93FE-9563EBD4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D32-5713-4651-AA0B-2428CB05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D0B-68A4-4B4B-81D7-06867CAC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3CD-2D46-439F-8F75-40901896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0B1-C68A-4A5E-848C-EE34AB99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6A13F-CD24-4B1F-B499-73BC605911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