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00431"/>
        <c:axId val="36118302"/>
      </c:barChart>
      <c:catAx>
        <c:axId val="54200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18302"/>
        <c:crosses val="autoZero"/>
        <c:auto val="1"/>
        <c:lblAlgn val="ctr"/>
        <c:lblOffset val="100"/>
        <c:noMultiLvlLbl val="0"/>
      </c:catAx>
      <c:valAx>
        <c:axId val="36118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00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7F6-8ACC-4CB4-8A73-9C1FF6B7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6DE-1438-4AEF-BCAF-11B6FCF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028-00C3-47CD-96B3-1D5EE3C8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341-8B9E-4D39-872E-97B73AB5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786-B529-4B23-8A4E-A36A4E0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0C3-86A0-41DF-B2E4-5222DEFD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8CC-2BD2-4E95-A6A0-31CA17F7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7E4-ECAC-43E5-B60D-455746B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710-DEDB-4E2F-B01F-DA21BFB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306-DC11-434C-8A51-854D0FAD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688-E2F8-44B2-8E29-FFB16FE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A63-3CEF-4444-A0CB-73449F9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08E82-E631-4920-9683-546790333A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