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05371"/>
        <c:axId val="55459823"/>
      </c:barChart>
      <c:catAx>
        <c:axId val="14205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59823"/>
        <c:crosses val="autoZero"/>
        <c:auto val="1"/>
        <c:lblAlgn val="ctr"/>
        <c:lblOffset val="100"/>
        <c:noMultiLvlLbl val="0"/>
      </c:catAx>
      <c:valAx>
        <c:axId val="55459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05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8D1-01CD-4AA7-A0A3-674A636E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451-C9B4-4B70-8D6A-7EBC5D8D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946-91B2-4661-B1E4-2BAA9130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2FA-1B87-4692-8E33-E2A8A7A0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1B3-9F55-4803-B618-B888DADD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9B4-767F-4A3D-ADEF-9433651C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83B-AB02-442A-890C-0F29FF22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736-BBB3-445E-B7A2-EE9C417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E97-35B1-4CD9-9BED-36FE9C0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C81-0146-4239-AC68-99AAD26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A8F-1973-40E2-BEFD-446205E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7FB-EB39-4857-AF3A-03C35F0F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39A54-6557-4558-9DAB-88F4D8605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