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230703"/>
        <c:axId val="59948801"/>
      </c:barChart>
      <c:catAx>
        <c:axId val="912307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48801"/>
        <c:crosses val="autoZero"/>
        <c:auto val="1"/>
        <c:lblAlgn val="ctr"/>
        <c:lblOffset val="100"/>
        <c:noMultiLvlLbl val="0"/>
      </c:catAx>
      <c:valAx>
        <c:axId val="599488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307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056C-B461-4839-837A-342624AD2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2067-25CD-43CD-B101-4565A58A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1827-39AD-49E1-B41E-C7A51B72D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9143-2254-408E-A23E-32AB6F692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9480-D64D-4C0C-973B-F69F484C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7D10-0BA8-425F-A66F-73DC1897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A21B-C205-4B36-931B-81BFCF1D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3293-E61A-47C6-87CB-C9717FF2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ED57-A65F-48AE-9DB1-E2004007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0EC6-7428-432E-9132-C13F8D4C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3FDF-F9A3-4023-A0AD-7B155BCD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E101-E549-40A9-ABE7-E16304CC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AFDBC-7861-4443-9759-EF420B2C3F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