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15903"/>
        <c:axId val="55683093"/>
      </c:barChart>
      <c:catAx>
        <c:axId val="96215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83093"/>
        <c:crosses val="autoZero"/>
        <c:auto val="1"/>
        <c:lblAlgn val="ctr"/>
        <c:lblOffset val="100"/>
        <c:noMultiLvlLbl val="0"/>
      </c:catAx>
      <c:valAx>
        <c:axId val="55683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15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61D-6032-4D3D-ABDB-150EFF6B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286-0B82-4BD5-ABD4-C34FBE58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998-1455-478F-BBF5-EBC8A56A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802A-58A0-422E-AAA1-5DA4018F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AF0-32C2-4D5E-ACE7-096E2EE4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D53-8FD7-4501-AF2C-30BA07E7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2F9-53BD-49A3-A3E5-20CF32CE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449-DA86-44C3-8746-5C56960B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8F1-647E-455E-90FE-BD42303B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84F-B988-4669-AB35-3A21E971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ABA-6F61-4CAB-8B82-0348CCA6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184-8CB6-4C11-9DE4-00392546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ACFFA-CE25-477F-B395-CFC2990DCA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