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88608"/>
        <c:axId val="27989469"/>
      </c:barChart>
      <c:catAx>
        <c:axId val="13788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89469"/>
        <c:crosses val="autoZero"/>
        <c:auto val="1"/>
        <c:lblAlgn val="ctr"/>
        <c:lblOffset val="100"/>
        <c:noMultiLvlLbl val="0"/>
      </c:catAx>
      <c:valAx>
        <c:axId val="27989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88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0E0-FDD0-4E15-9992-9E8BF7CD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2A5-47ED-4B14-BFAF-B5376F05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F16-5515-45FB-AC43-19407A58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532-38DA-4E89-851C-26B98430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114-E6B0-469E-B2E5-FB2AA477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0B1-78FD-423F-B3F0-19F74A83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28F-DB82-4804-814C-96D1CF5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229-FBC8-4A63-A6C8-8645933C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DC9-E0DD-47C6-83FC-40B009D7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ADC-11E2-4240-85BB-B65F752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C70-E017-4FB8-8035-AB70803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C54-776B-47E3-854D-9CB9560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2D46-B985-40D0-B11E-7B4A88692E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