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80800"/>
        <c:axId val="91274373"/>
      </c:barChart>
      <c:catAx>
        <c:axId val="9018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74373"/>
        <c:crosses val="autoZero"/>
        <c:auto val="1"/>
        <c:lblAlgn val="ctr"/>
        <c:lblOffset val="100"/>
        <c:noMultiLvlLbl val="0"/>
      </c:catAx>
      <c:valAx>
        <c:axId val="91274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8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D36-40F7-4F21-A162-50D287CA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E7B-2C18-4021-A089-330E20F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1FB-634C-4DAE-97FE-5C66C959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03B-1558-4106-A075-08A1982A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4F9-3BF9-46D2-B0FD-5263292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846-2999-453A-9E77-7937C5CF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865-AB3C-4D9B-86F6-E3C01B80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B39-A57F-4E1B-B5A8-50F70A3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4E8-E59C-4681-8317-88093DA7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A26-C84C-4583-A0AF-1068888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4A1-EC66-4C1A-B960-3D567F2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871-AF3A-4E5A-A737-1753845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9DF29-4925-4967-9F21-62562948AB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