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202110"/>
        <c:axId val="79886615"/>
      </c:barChart>
      <c:catAx>
        <c:axId val="272021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86615"/>
        <c:crosses val="autoZero"/>
        <c:auto val="1"/>
        <c:lblAlgn val="ctr"/>
        <c:lblOffset val="100"/>
        <c:noMultiLvlLbl val="0"/>
      </c:catAx>
      <c:valAx>
        <c:axId val="798866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021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95A1-D0B1-415E-BA1A-3EF571CE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D17B-F628-4704-BF13-DC4E1A8B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9E7B-F1FC-48B5-8AAE-64A8D5DE5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436C-EB06-4C71-8CAF-4A2F6404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17C-4BC5-4033-8C0C-99B6CC60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21F8-450B-47E2-AA74-7F45DC79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067D-FF8F-47C6-8B07-55438E96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2BDB-E50F-4936-B730-3B07A155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B76E-1044-4B06-9BFC-5C74F0B2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7208-3F26-492D-A690-B5FF0E50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AB94-EDCD-45B8-BB15-213DA972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A3A6-B6F3-415E-AD7F-04C74FBC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BCA77-FC01-437E-891C-DF3D734876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