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638302"/>
        <c:axId val="39708558"/>
      </c:barChart>
      <c:catAx>
        <c:axId val="59638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08558"/>
        <c:crosses val="autoZero"/>
        <c:auto val="1"/>
        <c:lblAlgn val="ctr"/>
        <c:lblOffset val="100"/>
        <c:noMultiLvlLbl val="0"/>
      </c:catAx>
      <c:valAx>
        <c:axId val="39708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38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89B8-7879-410E-BC74-124206A5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60B2-DB3B-4974-B126-C7C8258E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C016-3B7C-4E2F-9C0A-E9937773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E6F0-F787-4DF1-970D-AD731DAD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7AB9-2160-46BF-9A07-31FADFB0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09B0-6D07-4871-913E-063F5C8F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B47A-8A4F-4316-B99A-6260166B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84BF-1565-44FD-BD53-E58D4CC1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93B1-87AA-4D1D-80D4-472EB288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0FB0-4EFF-474B-B1CD-9268DC76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8FA9-8107-4275-A433-0A987967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2FDF-14F1-4264-BFC7-DD6F927E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C3917-EEE2-43BC-B3AE-D94BD63E5E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