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19403"/>
        <c:axId val="16557122"/>
      </c:barChart>
      <c:catAx>
        <c:axId val="58719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57122"/>
        <c:crosses val="autoZero"/>
        <c:auto val="1"/>
        <c:lblAlgn val="ctr"/>
        <c:lblOffset val="100"/>
        <c:noMultiLvlLbl val="0"/>
      </c:catAx>
      <c:valAx>
        <c:axId val="16557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19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1F13-A14A-4D95-921D-3E37BAC4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55A-B2BC-4CA2-AD07-DB74B090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2C5-A938-467C-8691-4BCBCD42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B41-9D35-4060-94DC-40B6F9E8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25A-C720-4037-80D0-0084952B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7E4-DDF3-4F9E-9239-60E789E0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509-4D90-4EAA-AD8D-6B43F2FF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112-FD0D-45C2-8C6C-1EF33E35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80F-E459-4AB6-A32F-097DBB5B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C57-7085-4F3C-A333-3F0A274D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0A8-CB7C-44C7-A0AE-502F47E2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F99-2880-49E8-892D-8FBE0104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FF363-C860-4B93-A4D5-F0F6D7CEE3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